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5B29-51CE-4AF7-A746-88638A0C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EF9B-B043-4DE9-BB95-1499C032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D08A-AFF1-4716-AD5A-36355EF79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519-8CF0-4BF4-A0DB-7EB25FAB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EDA3-8B33-4EFA-BFF2-DFE82954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68E6-931A-41CE-90A8-B70B7810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63BB-10B9-4348-9C37-6C575463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3034-7CCF-4209-9775-C0A5C46C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3146-CAE7-4C88-8352-0377A57F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E238-E408-407D-926C-EE9B6E6F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96D7-41C3-4483-93D1-DB8FD4E9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873C-13E1-4FB0-B2C9-92BD2995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AB06-DD62-4BA9-B64D-359A4100A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gumentar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 epidermis covers most of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s the stratum lucid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only four specific lay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the following accessories: 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icles, sebaceous glands, and sw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anin is a pigment produced and stor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called melanocy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wo types of melanin occur in various yello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dish, tan, brown, and black sh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otene comes primarily from di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kin produces/ synthesizes vitamin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like modifications of the epider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form on the dorsal surfaces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s of the fingers and to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the exposed distal tip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damage or distortion d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mping, kicking, catching, or grasp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derivatives formed from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um corneum layer of the epiderm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74840" y="0"/>
            <a:ext cx="459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 almost everywhere on th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 the palms of the hands,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des and soles of the feet, the lips,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des of the fingers and toes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ions of the external genita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hairs on the huma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on the general body surface r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 the 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00200" y="228600"/>
            <a:ext cx="6380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of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s the loss of conducted heat from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p to the surrounding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al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y re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signal dispe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of the synthesis of melanin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rix adjacent to the papilla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s in hair color reflect gene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d differences in the structure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an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and hormonal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y 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crine Glands of the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at (sudoriferous) glands produc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y solution that performs sev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ocrine (eccrine) sweat glands- most numerous. Palms and soles have the highest number (99% wa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ocrine sweat glands- most active during pub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baceous glands produce an oily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coats hair shafts and the epide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cause of accidental death, primarily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sult of their effects on the sk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caused by heat, radiation, harm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s, sunlight, or electrical sh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mediate threat to life results primar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fluid loss, infection, and the effect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ned, dead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ns are classified according to the depth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involv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45720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s of Sk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 of water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bolic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une def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y re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r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 of B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- and second-degree burn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partial-thickness bu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-degree burns are called full-thic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-degree burns involve only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rmis and are characteriz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ness, pain, and slight ed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xample is sun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 of B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-degree burns involv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rmis and part of the derm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kin appears red, tan, or whit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blistered and pain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xample is a sca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burn2.jpg 2nd Degree Burns image by mschlags"/>
          <p:cNvPicPr/>
          <p:nvPr/>
        </p:nvPicPr>
        <p:blipFill>
          <a:blip r:embed="rId2"/>
          <a:stretch/>
        </p:blipFill>
        <p:spPr>
          <a:xfrm>
            <a:off x="0" y="623880"/>
            <a:ext cx="91440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 of B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-degree burns involve the epidermis, dermi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bcutaneous layer, which are often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eneration may occur from the edge only, du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sence of derm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n grafting is required to prevent ab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e tissue fibrosis and disfigur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hydration is a major concern because the ent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ion of skin has been lost, and water cannot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aggressively treated for dehyd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117360"/>
            <a:ext cx="9144000" cy="662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ing of the Integ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n repair processes take longer du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number and activity of stem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n forms wrinkles and becomes 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l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n’s immune responsiveness is diminis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n becomes drier due to decr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baceous gland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ed skin and hair pig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ing of the Integ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at production dimini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supply to the dermis is re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ing to impaired thermoreg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ir thinning and l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umentary production of vitamin D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ini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skin canc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876312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304920"/>
            <a:ext cx="84582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g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kin that covers your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n is also known as the cutane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r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umentary system consists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n and its derivatives—nails, hai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eat glands, and sebaceous gl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g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body’s largest org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surface is covered by an epithelium that prot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lying body lay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nective tissues contain blood vessels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nutrients and provide strength and resil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sk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oth muscle controls both blood vessel di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hair po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al tissue supports and monitors 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ptors in the sk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Distinct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yer of stratified squam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thelium called the epiderm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eper layer of dense irre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e tissue called the derm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to the dermis is a layer of areolar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ipose connective tissue called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utaneous layer, or hypoder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746748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320" y="1143000"/>
            <a:ext cx="906768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ck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ck epidermis is found on the pal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hands, the soles of the feet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sponding surfaces of the fin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o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five epidermal strata occur in th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5:07:35Z</dcterms:created>
  <dc:creator>jeff bonomo</dc:creator>
  <dc:description/>
  <dc:language>en-US</dc:language>
  <cp:lastModifiedBy>jeff bonomo</cp:lastModifiedBy>
  <dcterms:modified xsi:type="dcterms:W3CDTF">2010-10-06T12:53:39Z</dcterms:modified>
  <cp:revision>12</cp:revision>
  <dc:subject/>
  <dc:title>Chapter 5  </dc:title>
</cp:coreProperties>
</file>